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5ADB-A345-4DD2-96FC-50D13D35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96CD-25D8-45E1-8575-A02585E5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2678-10F5-4CFA-BE79-57C0AB27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F198-63BB-48A0-A4F0-F11B2FFE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F683-C4F7-4EF6-8D4D-7E0520F2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34E4-6387-4FFD-8B9F-6058C1F1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E6B8-39FF-45AC-AA23-57B9F772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02DC-3446-4DE5-959F-3B3087F2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A507-08E2-48C9-AB3F-A22FFB9B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CBE4-C242-42E3-844C-22AD7CC0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8D11-2BE4-49CB-838F-E3E1E859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E20C-CFD8-4E12-AE2E-C3926F5D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B857-E246-4F00-9747-3D918831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B42F-571F-4BA7-AE92-19F5B107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7444-81AA-46A7-B62B-8EB2591C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21A5-3B3D-43C4-8C17-99516C61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E295-248E-4008-B8DE-81B2D9673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AC9F-6FE5-4D4E-9C3D-77B22823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A2FD-DD1C-42A0-91EB-46E74CD0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8AE-0C9E-47D9-9CC7-A2344122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6D5-018D-45CB-B046-F60EE116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44EC-CF23-49CE-BC1C-D569C385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9BB-2102-4D4A-A8D3-0F71C18A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2018-E52F-49BA-B301-281B5B84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Owner: F. Orucev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4E02-B26C-456B-B8B7-8981E082D291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eaeaea"/>
                </a:solidFill>
                <a:latin typeface="Times New Roman"/>
              </a:rPr>
              <a:t>Owner: F. Orucev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16BB-6179-499F-9CED-35110C064163}" type="slidenum">
              <a:rPr b="0" lang="hr-H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eaeaea"/>
                </a:solidFill>
                <a:latin typeface="Times New Roman"/>
              </a:rPr>
              <a:t>Owner: F. Orucevic</a:t>
            </a:r>
            <a:endParaRPr b="0" lang="en-US" sz="1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F92E-7AA5-46B9-A8C8-66F5E58FEA63}" type="slidenum">
              <a:rPr b="0" lang="hr-H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786950"/>
                </a:solidFill>
                <a:latin typeface="Bremen Bd BT"/>
              </a:rPr>
              <a:t>UNIVERZITET U SARAJEVU</a:t>
            </a:r>
            <a:br>
              <a:rPr sz="2000"/>
            </a:br>
            <a:r>
              <a:rPr b="1" lang="hr-HR" sz="2000" spc="-1" strike="noStrike">
                <a:solidFill>
                  <a:srgbClr val="786950"/>
                </a:solidFill>
                <a:latin typeface="Bremen Bd BT"/>
              </a:rPr>
              <a:t>ELEKTROTEHNIČKI FAKULTET SARAJEVO</a:t>
            </a:r>
            <a:br>
              <a:rPr sz="2000"/>
            </a:br>
            <a:r>
              <a:rPr b="0" lang="hr-HR" sz="2000" spc="-1" strike="noStrike">
                <a:solidFill>
                  <a:srgbClr val="786950"/>
                </a:solidFill>
                <a:latin typeface="Bremen Bd BT"/>
              </a:rPr>
              <a:t>ODSJEK ZA RAČUNARSTVO i INFORMATIKU</a:t>
            </a:r>
            <a:br>
              <a:rPr sz="2000"/>
            </a:br>
            <a:r>
              <a:rPr b="1" lang="hr-HR" sz="1600" spc="-1" strike="noStrike">
                <a:solidFill>
                  <a:srgbClr val="786950"/>
                </a:solidFill>
                <a:latin typeface="Bremen Bd BT"/>
              </a:rPr>
              <a:t>POSTDIPLOMSKI MAGISTARSKI STUDIJ</a:t>
            </a:r>
            <a:br>
              <a:rPr sz="1600"/>
            </a:br>
            <a:br>
              <a:rPr sz="3200"/>
            </a:br>
            <a:r>
              <a:rPr b="0" lang="hr-HR" sz="3200" spc="-1" strike="noStrike">
                <a:solidFill>
                  <a:srgbClr val="786950"/>
                </a:solidFill>
                <a:latin typeface="Bremen Bd BT"/>
              </a:rPr>
              <a:t>PROJEKTOVANJE</a:t>
            </a:r>
            <a:br>
              <a:rPr sz="3200"/>
            </a:br>
            <a:r>
              <a:rPr b="0" lang="hr-HR" sz="3200" spc="-1" strike="noStrike">
                <a:solidFill>
                  <a:srgbClr val="786950"/>
                </a:solidFill>
                <a:latin typeface="Bremen Bd BT"/>
              </a:rPr>
              <a:t>INFORMACIONIH SISTEMA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786950"/>
                </a:solidFill>
                <a:latin typeface="Verdana"/>
              </a:rPr>
              <a:t>Predavač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786950"/>
                </a:solidFill>
                <a:latin typeface="Verdana"/>
              </a:rPr>
              <a:t>Dr Fahrudin Oručevi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13716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Owner: F. Orucevic</a:t>
            </a:r>
            <a:endParaRPr b="0" lang="en-US" sz="1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2ABD-7B89-49A1-9AEE-1D688DA21E16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PosterBodoni BT"/>
              </a:rPr>
              <a:t>Topics: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On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Two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UCTURED WEB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Three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BASE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Four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B ACCESS TO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Fiv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ACTION MON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Six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DISTRIBUTED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Seve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WORKFLOWS MANAGEMENT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Eight: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B2B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000" spc="-1" strike="noStrike">
                <a:solidFill>
                  <a:srgbClr val="ff0000"/>
                </a:solidFill>
                <a:latin typeface="Verdana"/>
              </a:rPr>
              <a:t>[***Special:</a:t>
            </a:r>
            <a:r>
              <a:rPr b="1" lang="hr-HR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hr-HR" sz="2000" spc="-1" strike="noStrike">
                <a:solidFill>
                  <a:srgbClr val="ff0000"/>
                </a:solidFill>
                <a:latin typeface="Verdana"/>
              </a:rPr>
              <a:t>ITSM WITH ITI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13716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Owner: F. Orucevic</a:t>
            </a:r>
            <a:endParaRPr b="0" lang="en-US" sz="1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FC61-6423-487F-B5FB-7A774FEDF328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96600"/>
                </a:solidFill>
                <a:latin typeface="Tahoma"/>
              </a:rPr>
              <a:t>SADRŽAJ PREDAVANJA</a:t>
            </a:r>
            <a:endParaRPr b="0" lang="en-US" sz="2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EDAVANJE: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Aspects Considering for the Models of IS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The Global Picture [Technology/BusinessStrategy/Organisatio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The Big Pi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EDAVANJE: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tructured Web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Data Representation [Data Model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Data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Database Managemen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Integrating 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Data on the Web: HTML and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13716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Owner: F. Orucevic</a:t>
            </a:r>
            <a:endParaRPr b="0" lang="en-US" sz="1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F98F-27A3-492D-A187-2025C324AFD0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96600"/>
                </a:solidFill>
                <a:latin typeface="Tahoma"/>
              </a:rPr>
              <a:t>SADRŽAJ PREDAVANJA - nastavak</a:t>
            </a:r>
            <a:endParaRPr b="0" lang="en-US" sz="2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REDAVANJE: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Structured Web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XML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tandard XML A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REDAVANJE: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Database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Important Types of Integrated Databas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Wrappers: Transparent  Access to Data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chema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REDAVANJA: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Web Access to 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atabase Gate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tatic vs. Dynamic Database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CGI-based Database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Applet-based Database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ervlet-based Database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13716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Owner: F. Orucevic</a:t>
            </a:r>
            <a:endParaRPr b="0" lang="en-US" sz="1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3621-A104-4C9C-A1E9-7CD16101BD37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96600"/>
                </a:solidFill>
                <a:latin typeface="Tahoma"/>
              </a:rPr>
              <a:t>SADRŽAJ PREDAVANJA - nastavak</a:t>
            </a:r>
            <a:endParaRPr b="0" lang="en-US" sz="2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9966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REDAVANJE: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Transaction Mon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Transaction Processing 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tandard Transaction 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9966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REDAVANJE: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Transaction Mon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Transaction Monitor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Transaction and Communication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istributed Transaction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9966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REDAVANJE: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Distributed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erver Sid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CORBA Transaction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CORBA and Information Systems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13716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Owner: F. Orucevic</a:t>
            </a:r>
            <a:endParaRPr b="0" lang="en-US" sz="1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A9DB-7D56-4944-AF9F-58CEF62B1F9C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96600"/>
                </a:solidFill>
                <a:latin typeface="Tahoma"/>
              </a:rPr>
              <a:t>SADRŽAJ PREDAVANJA - nastavak</a:t>
            </a:r>
            <a:endParaRPr b="0" lang="en-US" sz="2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99660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REDAVANJA: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Workflows Managemen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kflow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Workflows Management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99660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REDAVANJA: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B2B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Evaluation of Electronic Comme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A Typical B2B Sce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Generic Architecture of a B2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Web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s of B2B Systems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Verdana"/>
              </a:rPr>
              <a:t>Special:</a:t>
            </a:r>
            <a:r>
              <a:rPr b="1" lang="hr-HR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hr-HR" sz="2400" spc="-1" strike="noStrike">
                <a:solidFill>
                  <a:srgbClr val="ff0000"/>
                </a:solidFill>
                <a:latin typeface="Verdana"/>
              </a:rPr>
              <a:t>ITSM WITH ITIL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OUNDATION OF IT SERVICE MANAGEMENT BASED OF ITIL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Organiz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T Gover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Organizational mat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Maturity model: CM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tandard: ISO/IEC 2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ustomer mat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enefits and risks of ITSM frame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ervice Lifecycle: concept and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Basic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e Service Life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IL 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13716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Owner: F. Orucevic</a:t>
            </a:r>
            <a:endParaRPr b="0" lang="en-US" sz="1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5ABF-5929-4555-A644-2B1ECAE6B184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enguiat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Verdana"/>
              </a:rPr>
              <a:t>Special:</a:t>
            </a:r>
            <a:r>
              <a:rPr b="1" lang="hr-HR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hr-HR" sz="2400" spc="-1" strike="noStrike">
                <a:solidFill>
                  <a:srgbClr val="ff0000"/>
                </a:solidFill>
                <a:latin typeface="Verdana"/>
              </a:rPr>
              <a:t>ITSM WITH ITIL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- continued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NTERPRISE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ales Arguments: Addressing the Top ten concerns of IT Dir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 Process Driven 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rocess based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 problem with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ervic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TIL v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ervice Strategies – Covers Practical decision m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ervice Design – A Pragmatic service bluepr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ervice Transition – Managing Responsive, stable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ntinual Service Improvement – Measures &amp; improvements that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13716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Owner: F. Orucevic</a:t>
            </a:r>
            <a:endParaRPr b="0" lang="en-US" sz="1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3699-AFD9-4324-B191-2B7238C4AE1D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enguiat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11:27:27Z</dcterms:created>
  <dc:creator>paja</dc:creator>
  <dc:description/>
  <dc:language>en-US</dc:language>
  <cp:lastModifiedBy>Paja</cp:lastModifiedBy>
  <dcterms:modified xsi:type="dcterms:W3CDTF">2010-03-02T08:13:31Z</dcterms:modified>
  <cp:revision>29</cp:revision>
  <dc:subject/>
  <dc:title>PROJEKTOVANJE INFORMACIONIH SISTEMA</dc:title>
</cp:coreProperties>
</file>